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F01F-DF6F-42DA-AEED-26D64394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09B7-D933-4CB4-9D67-3444800C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22C4-2326-4255-96F4-15BA3784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0E40-7E24-4B83-94E1-BEBB510F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0A3E-39D2-42D0-9CEC-BFDE166F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F0BF-C6CA-47C9-B65F-B31AEEB1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C5B8-2047-4ECE-8C10-6F280F86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F916-84F7-42E7-AF1B-0262B6E6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09C7-B58F-48E6-A62B-BF8F7CE8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D800-020E-44C6-966B-6B1F9F19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EC59-1834-4E28-AE34-E062EDF5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8685-2465-4302-9BB9-520CE1ED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EE30-0C02-4452-9D97-17049364BD4A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www.bing.com/videos/search?q=alimentos+de+castilla+la+mancha&amp;qs=n&amp;form=QBVR&amp;pq=alimentos+de+castilla+la+mancha&amp;sc=0-22&amp;sp=-1&amp;sk=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CASTILLA LA MANCHA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NUESTRA COMUNIUD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3 Imagen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845964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08000" y="189000"/>
            <a:ext cx="86868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astilla la Mancha está situada en el centro de Españ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d0d0d"/>
                </a:solidFill>
                <a:latin typeface="Calibri"/>
              </a:rPr>
              <a:t>Al norte limita con Castilla y León y Madrid, al oeste con Extremadura, al este con Aragón y Valencia y al sur con Murcia y Andalucí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Su nombre se lo debe a la gran llanura interior llamada LA MANCHA, que ocupa parte de 4 de sus 5 provincias: Cuenca, Toledo, Albacete y Ciudad Real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l norte ya fuera de La Mancha queda ubicada la provincia de Guadalajar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Tenemos grandes ríos: como el Tajo, el Guadiana y el Júca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3 Imagen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8353440" cy="4192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8000" y="27000"/>
            <a:ext cx="8686800" cy="23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omos la tercera autonomía más grande de España, con una superficie 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79.409 km²,  13 % de todo el territorio de Españ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 nos contamos somos 2.078.000 habitant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empre se nos ha conocido como Castilla la Nueva, pero desde 1978 y con la llegada de la Constitución y al igual que otras regiones de España nos constituimos en Comunidad Autónoma contando con nuestro propio Estatuto de Autonomía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16 de agosto de 1982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que nos facilita tener un gobierno propio y unas Cortes o Parlamento prop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3 Imagen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6958080" cy="4581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33336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 por algo es conocida nuestra Comunidad es por sus vinos. Somos el primer viñedo del mun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3 Imagen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3024000" cy="3068640"/>
          </a:xfrm>
          <a:prstGeom prst="rect">
            <a:avLst/>
          </a:prstGeom>
          <a:ln w="0">
            <a:noFill/>
          </a:ln>
        </p:spPr>
      </p:pic>
      <p:sp>
        <p:nvSpPr>
          <p:cNvPr id="49" name="4 CuadroTexto"/>
          <p:cNvSpPr/>
          <p:nvPr/>
        </p:nvSpPr>
        <p:spPr>
          <a:xfrm>
            <a:off x="3924360" y="1052640"/>
            <a:ext cx="439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ero no podemos olvidarnos de entre otros productos de nuestra gastronomía como el aceite, el azafrán, el jamón, el queso manchego y la miel de la Alcarria (Guadalajara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os platos típicos son el pisto manchego, los duelos y quebrantos (con huevo, tocino y chorizo) y las gacha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5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64000" y="4508640"/>
            <a:ext cx="1828800" cy="1485720"/>
          </a:xfrm>
          <a:prstGeom prst="rect">
            <a:avLst/>
          </a:prstGeom>
          <a:ln w="0">
            <a:noFill/>
          </a:ln>
        </p:spPr>
      </p:pic>
      <p:pic>
        <p:nvPicPr>
          <p:cNvPr id="51" name="6 Imagen" descr=""/>
          <p:cNvPicPr/>
          <p:nvPr/>
        </p:nvPicPr>
        <p:blipFill>
          <a:blip r:embed="rId4"/>
          <a:stretch/>
        </p:blipFill>
        <p:spPr>
          <a:xfrm>
            <a:off x="684360" y="4221000"/>
            <a:ext cx="3028680" cy="2232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240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símbolos de la Reg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4 Imagen" descr=""/>
          <p:cNvPicPr/>
          <p:nvPr/>
        </p:nvPicPr>
        <p:blipFill>
          <a:blip r:embed="rId1"/>
          <a:stretch/>
        </p:blipFill>
        <p:spPr>
          <a:xfrm>
            <a:off x="324000" y="863640"/>
            <a:ext cx="4589280" cy="2997000"/>
          </a:xfrm>
          <a:prstGeom prst="rect">
            <a:avLst/>
          </a:prstGeom>
          <a:ln w="0">
            <a:noFill/>
          </a:ln>
        </p:spPr>
      </p:pic>
      <p:pic>
        <p:nvPicPr>
          <p:cNvPr id="54" name="5 Imagen" descr=""/>
          <p:cNvPicPr/>
          <p:nvPr/>
        </p:nvPicPr>
        <p:blipFill>
          <a:blip r:embed="rId2"/>
          <a:stretch/>
        </p:blipFill>
        <p:spPr>
          <a:xfrm>
            <a:off x="5076720" y="720720"/>
            <a:ext cx="3757680" cy="2637000"/>
          </a:xfrm>
          <a:prstGeom prst="rect">
            <a:avLst/>
          </a:prstGeom>
          <a:ln w="0">
            <a:noFill/>
          </a:ln>
        </p:spPr>
      </p:pic>
      <p:sp>
        <p:nvSpPr>
          <p:cNvPr id="55" name="6 CuadroTexto"/>
          <p:cNvSpPr/>
          <p:nvPr/>
        </p:nvSpPr>
        <p:spPr>
          <a:xfrm>
            <a:off x="5121360" y="3564000"/>
            <a:ext cx="32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bandera de la región se compone de un rectángulo dividido verticalmente en dos cuadrados iguales: el primero, junto al mástil, de color rojo carmesí con un castillo y el segundo, blanc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7 CuadroTexto"/>
          <p:cNvSpPr/>
          <p:nvPr/>
        </p:nvSpPr>
        <p:spPr>
          <a:xfrm>
            <a:off x="611280" y="4221000"/>
            <a:ext cx="410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escudo de la Junta de Comunidades de Castilla-La Mancha es partido. En la parte superior tiene una corona y la parte inferior está dividida en dos franjas como la bandera, una roja con un un castillo y una blanca sin dibuj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nstituciones de Castilla la Manch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3 Imagen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2663640" cy="4896000"/>
          </a:xfrm>
          <a:prstGeom prst="rect">
            <a:avLst/>
          </a:prstGeom>
          <a:ln w="0">
            <a:noFill/>
          </a:ln>
        </p:spPr>
      </p:pic>
      <p:sp>
        <p:nvSpPr>
          <p:cNvPr id="59" name="4 CuadroTexto"/>
          <p:cNvSpPr/>
          <p:nvPr/>
        </p:nvSpPr>
        <p:spPr>
          <a:xfrm>
            <a:off x="4067280" y="1341360"/>
            <a:ext cx="4825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o todas las Comunidades Autónomas, Castilla la Mancha tiene un parlamento propio llamado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ortes de Castilla la Manch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ubicado en un antiguo convento de Toledo llamado de San Gi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 elegido por los ciudadanos en las elecciones autonómic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uncion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+ Elaborar ley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+ Elegir Presidente Comunidad. (persona que preside la Comunida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+ Controlar la acción del Consejo de Gobierno: formado por el Presidente y los consejeros nombrados por él.  Cada consejero se ocupa de un asunto concreto de la Comunidad: Agricultura, turismo, transporte, educación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Comunidades Autónomas de Españ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3 Imagen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848720" cy="4391280"/>
          </a:xfrm>
          <a:prstGeom prst="rect">
            <a:avLst/>
          </a:prstGeom>
          <a:ln w="0">
            <a:noFill/>
          </a:ln>
        </p:spPr>
      </p:pic>
      <p:pic>
        <p:nvPicPr>
          <p:cNvPr id="62" name="4 Imagen" descr=""/>
          <p:cNvPicPr/>
          <p:nvPr/>
        </p:nvPicPr>
        <p:blipFill>
          <a:blip r:embed="rId2"/>
          <a:stretch/>
        </p:blipFill>
        <p:spPr>
          <a:xfrm>
            <a:off x="4859280" y="5921280"/>
            <a:ext cx="1189080" cy="890640"/>
          </a:xfrm>
          <a:prstGeom prst="rect">
            <a:avLst/>
          </a:prstGeom>
          <a:ln w="0">
            <a:noFill/>
          </a:ln>
        </p:spPr>
      </p:pic>
      <p:sp>
        <p:nvSpPr>
          <p:cNvPr id="63" name="5 CuadroTexto"/>
          <p:cNvSpPr/>
          <p:nvPr/>
        </p:nvSpPr>
        <p:spPr>
          <a:xfrm>
            <a:off x="3690360" y="618336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ueg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rovincias de Españ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3 Imagen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064360" cy="4248360"/>
          </a:xfrm>
          <a:prstGeom prst="rect">
            <a:avLst/>
          </a:prstGeom>
          <a:ln w="0">
            <a:noFill/>
          </a:ln>
        </p:spPr>
      </p:pic>
      <p:pic>
        <p:nvPicPr>
          <p:cNvPr id="66" name="4 Imagen" descr=""/>
          <p:cNvPicPr/>
          <p:nvPr/>
        </p:nvPicPr>
        <p:blipFill>
          <a:blip r:embed="rId2"/>
          <a:stretch/>
        </p:blipFill>
        <p:spPr>
          <a:xfrm>
            <a:off x="6529320" y="5886360"/>
            <a:ext cx="847800" cy="757440"/>
          </a:xfrm>
          <a:prstGeom prst="rect">
            <a:avLst/>
          </a:prstGeom>
          <a:ln w="0">
            <a:noFill/>
          </a:ln>
        </p:spPr>
      </p:pic>
      <p:sp>
        <p:nvSpPr>
          <p:cNvPr id="67" name="5 CuadroTexto"/>
          <p:cNvSpPr/>
          <p:nvPr/>
        </p:nvSpPr>
        <p:spPr>
          <a:xfrm>
            <a:off x="5224680" y="600084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uego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4 Imagen" descr=""/>
          <p:cNvPicPr/>
          <p:nvPr/>
        </p:nvPicPr>
        <p:blipFill>
          <a:blip r:embed="rId3"/>
          <a:stretch/>
        </p:blipFill>
        <p:spPr>
          <a:xfrm>
            <a:off x="2627280" y="5877000"/>
            <a:ext cx="847800" cy="757080"/>
          </a:xfrm>
          <a:prstGeom prst="rect">
            <a:avLst/>
          </a:prstGeom>
          <a:ln w="0">
            <a:noFill/>
          </a:ln>
        </p:spPr>
      </p:pic>
      <p:sp>
        <p:nvSpPr>
          <p:cNvPr id="69" name="5 CuadroTexto"/>
          <p:cNvSpPr/>
          <p:nvPr/>
        </p:nvSpPr>
        <p:spPr>
          <a:xfrm>
            <a:off x="1553040" y="609300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uego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20:40:19Z</dcterms:created>
  <dc:creator> </dc:creator>
  <dc:description/>
  <dc:language>en-US</dc:language>
  <cp:lastModifiedBy> </cp:lastModifiedBy>
  <dcterms:modified xsi:type="dcterms:W3CDTF">2015-04-15T16:57:25Z</dcterms:modified>
  <cp:revision>6</cp:revision>
  <dc:subject/>
  <dc:title>CASTILLA LA MANCHA NUESTRA COMUNIUDAD</dc:title>
</cp:coreProperties>
</file>